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99DA-1B28-437C-A3B1-6AB91F611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7CB0-7B03-45F0-89A0-808B4E9E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9E0A5-B16A-4791-A77C-4128AB5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AABDC-4D7E-4100-A5F4-08DB9180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DE243-F6E2-4B3F-913A-993EC445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66D4AE-90B6-48C7-8353-68C2D34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9DCCD-E26E-4A05-83A5-A026657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6C6933-3BF5-438D-8CAE-685ABA6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7445A-F519-4E0C-814C-06851614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1DCF00-FE6B-4A8C-8DF9-B326773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94D98-8F42-48B1-89FB-759F4B56A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19DAF-D1DB-44F7-A1D5-6F6F63F79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0ABA-E6B9-43BF-A72D-F7A655F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6163B-E5F4-41E3-9605-FE179AC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330A-A4A4-4AFA-95C6-5EB752B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BA465-C2C9-4E0D-A590-BEDC0FE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EE3B-9673-4F07-AEC7-F867FC1B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7569-BE64-4AC3-A38B-2F742455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FD5D-1875-4B50-93B8-04162E7C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6EA7-F3ED-4721-AFD1-2AE2F736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E93D-03AB-46CF-97F2-06E9ABE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0C3C-277B-4D6F-B0CA-5023FA5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426C-2E48-4486-843D-787A729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B063-3842-47F2-9691-10C698D59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5ACD-EE07-444B-A184-90A6FFB1E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7122B-3343-4096-AA83-70DAC0731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41662-5BB3-4B5F-B93C-1466CB2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BBF1E-EE30-452F-AD8B-060D7768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418FF-3FE0-414D-8202-9C4FEE1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5F435-54C2-4C41-8A81-B3416BB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EA3833-5AA5-488D-B602-19E36E74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0016A-456A-47BB-9DE1-C3E0045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EAA27-2356-4FAD-9A63-10A53B2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348AA-BDF8-4F45-962C-59863B90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9E03D-EFA8-4E00-8831-E4778558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4EE62-B103-4CC6-B7FA-67C3974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6559C-BE61-41FC-AE35-36CC500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9DBF2A-DD3D-4836-BC10-7853E9780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DBDE0-3824-4D22-AA1A-4ADA62227B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B67C4-E417-4FEF-B77F-DB2D0961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02C0A-387B-4ADB-A7F3-7F1C9FD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38C4D-6F62-4D85-8E6B-9ED7412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BED2C-CE0E-4F49-A19D-E59B64B3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FF4DE-3B3D-4178-8FEF-CB030F62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9CF80-94FC-45F0-985A-B8BF7A4D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688A-FA3F-4010-930B-ABB3E09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295AA-F82C-4070-B5A3-71B5BE8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A464B-AEF1-40AB-AA50-39CC211B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D728C-5BF9-4BB2-8ADA-B3872EE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33440-06CB-4FA2-9C97-C3C9E63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E5942-3190-4461-9CBB-08B2C3220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C7838-E31F-4927-AA4A-DFAF3D89F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08B38-57D3-41E6-B778-1EA6E4A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3397E-5FB5-4A3E-9DF4-13572C0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0BBC-27A9-46D9-97C9-AC54EE1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75D2B-16DE-409D-8038-B4C9434F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2E592-4BF0-4C09-8299-BF1AFB3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1940-9341-46D1-919D-D680A4F0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3F187-45EB-42DD-8EB8-E3B87D9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5F6A0-8960-4F56-9F30-FD1D0C1B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1070C-2F25-4FEA-965F-6D2ED62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A6CBA-FF55-4D0C-B7EA-FA7E739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DE720-482B-4911-A62A-17CF3F1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344CF-58FA-495D-AA79-D24EE84F3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3FEBD-F847-49FB-9A85-4A2871B0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C3C8-3B85-4A07-AC95-6BCA67E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A8FC0-38EE-4C46-9D0D-9C0DE15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F401-EE29-4F24-A4BE-C659B51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FEC60-C97C-4C32-9EE3-10F60F7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7E2A7-BE1A-435E-A1C7-8486D89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E9B6E-63B0-4BAD-A401-77916B1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93C9E-7F90-4E0A-AD5D-5D0EA33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48327-FAF5-429E-A380-76C141F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94B57-0835-46FD-A86B-6186AA3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F4F0D-C0FA-482A-A986-635F535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752C0-2923-4FF9-9E85-C75A9DCB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9B7F4-25A7-4CC0-9866-28201B28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E7956-0AE7-4D72-B0B8-7183B92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93CD-FEFE-4CFC-AB75-9445CAE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FA32-731B-41FE-8E35-FD466C0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48D7-DACF-46A1-9C6E-93097E6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270BF-2E2F-491D-BB11-714081F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11EB1-2D6B-4069-9728-D349409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6DC72-3378-422D-ACFD-F79ED73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2E93-CBB0-4D5E-9BB7-6248A7A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B9CF-5A87-40E3-ABA9-EE17F0E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CE88-228D-4B99-94A6-DFCE564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20E82-A05F-49CD-B645-0D29E784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502C-5DA6-4F76-ADD2-4ACF3309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1550F-3CC8-4E53-BC3C-74A83BE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95FE1-4153-48D5-A1D8-42F3E7AA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64F70-3994-45EF-A140-80384CB8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C52D7-1B48-4E28-A677-7A01147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F028D-94E0-4EBE-A7E0-22F9EE0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15F99-68C9-4C9F-BAE5-574AC54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C10E2-BDC2-4C8E-BD5B-BAD4EA6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35E4C-8D39-4028-A04A-7FDEB859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64589-7665-4BE4-9985-61B5ABA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56520-6EF3-4796-AD56-36BE960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53361-E542-429D-ABE5-FE6EB74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09473-5EFC-408C-995B-EE23017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2BAEE-A133-4346-815E-D959E07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5326-699C-4DB3-A941-6CADDD09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67BF7-B76E-4CDF-94ED-28E9D3A8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8A5EE-7893-4F99-B359-D3F8FAB0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135A9-7D07-45F0-925D-95545C4A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19BB7-00C3-427F-82EB-F2A05CF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4FD61-4FDD-4513-BB25-B344864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97144-1F0F-4231-B9DD-BFD433C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BC698-910D-46E0-90B2-895CCAE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6FEA2-846E-4600-ACC6-45C9AB8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65B9-A448-4F62-8C7F-58FFE58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DF68-70BB-493C-8224-6513E8C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7CDAC-E636-42E0-BD5B-B6D2C64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4CFC7-CBFC-41D5-9502-FF23CC7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02688-2007-402F-846A-3085D0B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45AC1-1BB5-43AB-B463-0D116D6A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584F6-A96D-40BB-AC45-8B6A563E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DE0FC-C9E1-4FFD-B327-A92924FB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F49E0-8B27-491E-83EB-AD396163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556C0-A8DC-4809-9A2A-6FC3E7B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28428-55D3-4560-A5B5-DDCA9E6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410F-106B-4113-BBD0-CA403B8B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548D3-D46D-4CFB-8DAE-1E11757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0F4DA-237E-4C27-B524-8190B5F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0A894-C463-447B-8E20-63357C7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CABD8-D19D-4F5F-A6CE-3A9945C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7D938-5497-4AE7-8F72-35F3CDE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540AB-84F9-4737-BE82-36EDA2A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AAF07-7869-4C22-A5F6-31C477A1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BC727-2534-4251-B2DB-63E16B47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6B4D7-798E-4475-88C7-28EBB692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885A1-3D36-4472-A3B8-A8457B3E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8EA6B-312C-4F40-BCD8-3CE4CA3E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EC9FC-D49E-463C-A167-E2A4A57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D809B-5FE4-4F65-8614-60DE47AE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5BEE4-30C7-46AD-8C67-79FF648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FB80E-41AD-4C46-A325-9E51179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7A3AD-9CF8-40AF-9EFC-051AD69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6960E-E4D1-4886-A0F2-7AD95C7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2929B-28C2-41FE-AE8A-00D65F0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94F65-71E4-4DFA-9051-74DD4EF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76F90-1A8E-4EFE-ACA5-81F84961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965C2-1B9D-4502-AB89-57C25EAC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4E8D0-8B59-4D98-A851-86B8E5F1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0CF0C-C728-40F1-9BCF-1EFE1D19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13C33-888E-4D01-AD0D-DC35190C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6DB5D-2F1B-4406-9DC9-C41DDAE0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91759-980A-4C36-8E7D-88E970E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E15E8-C33A-45DD-9613-1ECBF74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83166-293C-4F67-9448-FB2B54DD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AA62B-6BB5-4F5C-8B91-6E950D9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21B05-061A-44D5-A8B0-B59B6D8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9969-6B86-41F2-8DA8-B11C69F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5A909-5F3E-4DEE-ABC0-609F5109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04C6A-0745-41C0-96A9-A0C1988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F416D-B89D-4B9D-8C4E-341737E0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7F42E-6671-4A19-A7FC-6C0735B2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3873C-A0C2-405E-A5A8-0E03145C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4389A-6949-44B0-A3BD-DB78E03A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FC3FC-44DD-44E4-A625-0CDCB5A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D637C-7D48-46AF-AEF0-4B4D4113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26B8E-43F6-4F9C-9EBF-4C8FF3E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8EFF2-C96D-4BA1-9957-6D9B3E1D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0FAC6-C9A3-4411-AD43-8A2B910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378FB-6B44-4B4F-96C8-94D1EB08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D4045-A205-4711-A320-DEA4B83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69108-8EA2-419B-AF43-4A0F7C58B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63C2E-683C-49AA-9C8E-47ACE81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E5D3D-F72A-4821-BC41-385FA4F3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241B1-6969-4F6E-B507-176CF2F3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67A80-020B-4171-9B01-7FE5C148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B1A36-5393-484B-A4B5-16248EB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8E2AC-F09F-465E-B4E1-3A9B34E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13B46-E41C-4C68-8A51-A7A273A4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1C418-494F-4C5F-A3F2-BA2496B9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AA48E-35BA-48D7-A570-3D862E43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39597-B685-4CA9-9E32-0204745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97E0C-F730-4B90-935A-886C7F71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33085-69E2-4787-B0D1-D35D887A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39D1D-2729-4789-BDF5-9A57EF8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22303-03C6-4ABD-BC1D-AF189E90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442EF-AD0E-4879-A8F5-74E6D22F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9EBC7-C03B-42ED-98D4-2E3FA944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CFF4B-F2C3-41B5-8764-7CE5776E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AA836-3CF9-41D7-93EF-D59402A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486F0-00F8-4194-BEEB-4A9DC32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D77FC-0811-45F6-96C0-21DC809F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17146-AA9E-4F2A-95D5-CEAEAB46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EC928-ECB4-4125-BCF4-5B7CF95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C3E78-DDC4-4F1E-B400-19449B37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5B721-9D57-42B4-AFC5-1DD83B5A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3C74B-DADC-418E-8F56-92C06BE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B2CEC-F00D-4D1C-A3E1-B8B414D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99DEB-18B7-4C93-89F7-9F61B7D4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28F32-888F-4F99-9F1B-76E8EADA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7D744-09E2-4218-A8ED-9510364E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95E68-A0FB-4D0C-AE98-53D92836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1910D-B0A5-4FFA-8EDF-2156BDDE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4BDE1-BFFC-4A40-A4EA-58068443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D9CDE-2DAA-44F1-A043-DE33296B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83C87-E0C4-4364-B143-69CDF0C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AA09A-70DA-4FA3-BAAC-1132ED4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839D0-8BC3-495B-8B3B-06BD592B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A6BA3-E4C3-4F2F-8806-089B807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57533-CD72-4ED4-A226-1C7C01C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12CD1-B660-4A5A-851C-949C8B1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C7143-8C27-4557-AAD9-3BDE26A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87C5B-7682-4866-A2AC-94704983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65CBA-D051-478B-A808-6738844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7757E-A499-4239-BF03-D52A8B37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05DE-8D0D-4711-B484-304346D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872BB-0CB7-45AE-BEB5-80E2AE39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52B56-B33A-4BAD-9EAF-FA5A822D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C7AC6-8A0A-4B0B-992B-C0B436B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06E40-2004-48AC-900E-923CE30B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28296-94E2-484E-9E20-C9EB838B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4D8E3-1943-4AC8-8BE9-24512F6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D69A7-09FF-4A1B-AC8B-4F41CCC5B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C1CF-D5DB-4040-A986-26E5A85A0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1F6C-3DFE-42BC-8DB5-39AA79C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0DA5-9140-484C-BAF6-51E2731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0061-63F0-4925-B74F-BB11308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5871-CE68-4790-B1A9-6038F78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2104-A03B-4F9B-B431-C9B32F94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6B37-E570-4149-BFC8-64F931F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AE59-62C5-4DEC-B34F-DCFD6E46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3F09-4841-41A2-9211-5785749C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132D-DF18-4B02-B898-EA76B51E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CAEB-288B-4313-9FC8-6F16BEB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8044-3694-4F3C-96FE-12A818F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B694-F406-4E78-AD6B-4C9E3AC83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A5A17-0594-4533-A4E5-CD7412BE5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C0E0-6F4D-483C-8A33-DCCA6B02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48393-31DF-4892-9F3A-AA6D8D68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601D4-386F-44C1-887C-9459BEF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F7668-2E92-42FB-A33A-C468A8A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9048A-6087-4BA7-B44F-9DA3617A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81774-7EEC-4CE4-AB33-B5407ACD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05DEA-1BFF-43EE-BA99-FAFEA9AC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F47A3-C677-4B03-B200-6F41902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7B66D-D160-4E22-97AF-E880C18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20514-C3AE-49C6-BC2B-348A1C1A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54A9A-AE94-4BE1-BEFF-9C6D56A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DAB0-9BDD-409E-91FE-644F123A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BA40F-CCDA-436B-B03C-A7D6B7D07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DB950-63F4-4E83-9309-42B6D012C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99B85-8080-4D6B-B34A-C00D0BB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06305-B527-40A5-81E0-82C7E8D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A93B5B-F7CE-4E87-8138-7152A19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ECBFDB-9A8E-4F7F-9A57-31B16934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5126E-9D05-4891-A77F-3A8C68B3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BA7505-A538-43FD-AEAF-E1F9AB6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9922F-993B-440E-BB87-7A9E9FA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2428C-7B5D-4958-97EC-043DCE4E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A530-A426-472A-A804-AB7B6AE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2AD06-F0B9-4E98-8EB7-F38D8BC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80E2E-5DA1-451D-B9C5-FCAE4C0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AD7AB-A4F0-4185-A11D-00D9110ED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DC68-7C92-47A2-B34D-7193C8A59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30DEC-FFCC-4237-B12A-A5BE28C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0435B-6666-4FAF-B925-6E023E7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90D5-8170-4C0E-96A4-CD1A2E4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AFED-05D8-4E4A-8FF6-871AC58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3CB4-EC70-4965-BC03-BD114DCA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5D96-AFDE-4A90-82D8-2DEF1CF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1983-CB81-44CD-A1F5-B0560F8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8EF6-8121-49A8-81B4-9734F7CA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99490-2943-43FB-9692-9F5F3B0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628C-030D-4712-8648-A8246350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28A9-082E-4EE4-87FB-33E02A5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2DD6-827A-4D1F-BED6-5C63A7E7F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3FBF6-7221-4821-B6A4-8F8511B53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50D83-C5CB-4F25-BB91-E003A9D9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6380F-CA53-4C1E-B8A0-6F6A120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4939A-B8A2-4587-9CAF-F8001E8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3D7DA-BE06-47C1-A7BF-D3A3FF64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2779-405C-48EF-8A87-6366BBCE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3A1C5-D2C2-4B89-B252-3D291BDD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03021-432B-46B5-BFCF-70CC9EF5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BE47C-34A5-48DC-A562-CC60C53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375E4-AEE2-4FDF-990A-DC3E856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F3AB4-8AA0-4350-BA5D-5924EEFC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204FB-D6C1-445C-B570-33210D6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7B4E2-97B7-4D29-BEAF-F99DD21C9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E3967-EB22-431E-B803-0BEEE82A2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0D95B-CB52-4E8C-9E2E-276AB01E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504A53-1F3B-4F6E-89A1-9DE86DE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6862-A1A5-4D39-BA1C-0A355D1F71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4CB-5A23-4796-86DF-81D5F350E3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0E1A-16A3-41E9-90BD-663DAF732B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E09-1C62-4D44-BA1C-C8191EE9A2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720-942B-42A3-B119-B612ACD33B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7A1-A106-411F-9A8E-C3FA1318E1B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097-85F0-4BFA-963C-DFC351EC53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CF5-F703-4E73-AD4B-7C4C8E2C0A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3D6-7EEA-4714-9B92-3E838AA695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EBE-EB15-4B20-BE00-9D5E2F9D3F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250-CC47-4C21-8E6A-6B28AA354D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1016-4B10-48AE-A217-EFF7EA1FEB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537-564D-497A-8CDB-DD73E2666F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23C-C79B-4E26-993C-7E0B22EDF0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E05F-BD47-4E8F-B726-4689182DF8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8D20-4265-414C-9C26-AEE9E1D9AC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BE49-71E5-404D-9DD0-A7EA0E5FCE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83C-C9EA-4565-90F1-7E89822D92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D1FF-8F4D-4028-9B15-4ECDBB8576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4A29-F81E-4786-BC29-3372D86438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6F2-5A49-450B-99A3-3F5ABBF91E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4E1-8772-4A6D-80DA-26614BD11C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F586-D594-43A5-B525-07927AD69A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077D-ED64-49FF-A1DE-69754D020A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350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是 一 位 数 的 除 法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528480" y="96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71424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4=            15×6=            25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×5=            15×8=            25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714240" y="2571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笔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8÷24=                       245÷4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714240" y="5429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在试商中，当商大了或小了时，要用调商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方法，找到合适的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36"/>
          <p:cNvSpPr/>
          <p:nvPr/>
        </p:nvSpPr>
        <p:spPr>
          <a:xfrm>
            <a:off x="2311560" y="3162240"/>
            <a:ext cx="1357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7"/>
          <p:cNvSpPr/>
          <p:nvPr/>
        </p:nvSpPr>
        <p:spPr>
          <a:xfrm>
            <a:off x="5626080" y="3151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8"/>
          <p:cNvSpPr/>
          <p:nvPr/>
        </p:nvSpPr>
        <p:spPr>
          <a:xfrm>
            <a:off x="203832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39"/>
          <p:cNvSpPr/>
          <p:nvPr/>
        </p:nvSpPr>
        <p:spPr>
          <a:xfrm>
            <a:off x="2022480" y="2008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40"/>
          <p:cNvSpPr/>
          <p:nvPr/>
        </p:nvSpPr>
        <p:spPr>
          <a:xfrm>
            <a:off x="414324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4110120" y="20034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42"/>
          <p:cNvSpPr/>
          <p:nvPr/>
        </p:nvSpPr>
        <p:spPr>
          <a:xfrm>
            <a:off x="621504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43"/>
          <p:cNvSpPr/>
          <p:nvPr/>
        </p:nvSpPr>
        <p:spPr>
          <a:xfrm>
            <a:off x="6215040" y="19782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35"/>
          <p:cNvGrpSpPr/>
          <p:nvPr/>
        </p:nvGrpSpPr>
        <p:grpSpPr>
          <a:xfrm>
            <a:off x="988920" y="3576600"/>
            <a:ext cx="1654200" cy="1281600"/>
            <a:chOff x="988920" y="3576600"/>
            <a:chExt cx="1654200" cy="1281600"/>
          </a:xfrm>
        </p:grpSpPr>
        <p:grpSp>
          <p:nvGrpSpPr>
            <p:cNvPr id="1022" name="组合 28"/>
            <p:cNvGrpSpPr/>
            <p:nvPr/>
          </p:nvGrpSpPr>
          <p:grpSpPr>
            <a:xfrm>
              <a:off x="988920" y="3576600"/>
              <a:ext cx="1654200" cy="1281600"/>
              <a:chOff x="988920" y="3576600"/>
              <a:chExt cx="1654200" cy="1281600"/>
            </a:xfrm>
          </p:grpSpPr>
          <p:sp>
            <p:nvSpPr>
              <p:cNvPr id="1023" name="TextBox 14"/>
              <p:cNvSpPr/>
              <p:nvPr/>
            </p:nvSpPr>
            <p:spPr>
              <a:xfrm>
                <a:off x="988920" y="357660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4  1  8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  6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组合 27"/>
              <p:cNvGrpSpPr/>
              <p:nvPr/>
            </p:nvGrpSpPr>
            <p:grpSpPr>
              <a:xfrm>
                <a:off x="1242360" y="3957120"/>
                <a:ext cx="1400760" cy="901080"/>
                <a:chOff x="1242360" y="3957120"/>
                <a:chExt cx="1400760" cy="90108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1271160" y="4857840"/>
                  <a:ext cx="1371960" cy="360"/>
                  <a:chOff x="1271160" y="4857840"/>
                  <a:chExt cx="1371960" cy="360"/>
                </a:xfrm>
              </p:grpSpPr>
              <p:sp>
                <p:nvSpPr>
                  <p:cNvPr id="1026" name="直接连接符 19"/>
                  <p:cNvSpPr/>
                  <p:nvPr/>
                </p:nvSpPr>
                <p:spPr>
                  <a:xfrm>
                    <a:off x="1271160" y="4857840"/>
                    <a:ext cx="1371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1271160" y="4857840"/>
                    <a:ext cx="13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1242360" y="3957120"/>
                  <a:ext cx="1371960" cy="360"/>
                  <a:chOff x="1242360" y="3957120"/>
                  <a:chExt cx="1371960" cy="360"/>
                </a:xfrm>
              </p:grpSpPr>
              <p:sp>
                <p:nvSpPr>
                  <p:cNvPr id="1029" name="直接连接符 26"/>
                  <p:cNvSpPr/>
                  <p:nvPr/>
                </p:nvSpPr>
                <p:spPr>
                  <a:xfrm>
                    <a:off x="1242360" y="3957120"/>
                    <a:ext cx="1371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 txBox="1"/>
                  <p:nvPr/>
                </p:nvSpPr>
                <p:spPr>
                  <a:xfrm>
                    <a:off x="1242360" y="3957120"/>
                    <a:ext cx="13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1" name="Text Box 18"/>
            <p:cNvSpPr/>
            <p:nvPr/>
          </p:nvSpPr>
          <p:spPr>
            <a:xfrm>
              <a:off x="1368360" y="3835080"/>
              <a:ext cx="5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文鼎CS书宋二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34"/>
          <p:cNvGrpSpPr/>
          <p:nvPr/>
        </p:nvGrpSpPr>
        <p:grpSpPr>
          <a:xfrm>
            <a:off x="4417920" y="3573360"/>
            <a:ext cx="1654200" cy="1200600"/>
            <a:chOff x="4417920" y="3573360"/>
            <a:chExt cx="1654200" cy="1200600"/>
          </a:xfrm>
        </p:grpSpPr>
        <p:grpSp>
          <p:nvGrpSpPr>
            <p:cNvPr id="1033" name="组合 29"/>
            <p:cNvGrpSpPr/>
            <p:nvPr/>
          </p:nvGrpSpPr>
          <p:grpSpPr>
            <a:xfrm>
              <a:off x="4417920" y="3573360"/>
              <a:ext cx="1654200" cy="1200600"/>
              <a:chOff x="4417920" y="3573360"/>
              <a:chExt cx="1654200" cy="1200600"/>
            </a:xfrm>
          </p:grpSpPr>
          <p:sp>
            <p:nvSpPr>
              <p:cNvPr id="1034" name="TextBox 30"/>
              <p:cNvSpPr/>
              <p:nvPr/>
            </p:nvSpPr>
            <p:spPr>
              <a:xfrm>
                <a:off x="4417920" y="357336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4 9  2  4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 4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组合 31"/>
              <p:cNvGrpSpPr/>
              <p:nvPr/>
            </p:nvGrpSpPr>
            <p:grpSpPr>
              <a:xfrm>
                <a:off x="4978080" y="3980160"/>
                <a:ext cx="1094040" cy="793800"/>
                <a:chOff x="4978080" y="3980160"/>
                <a:chExt cx="1094040" cy="79380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5000400" y="4773600"/>
                  <a:ext cx="1071720" cy="360"/>
                  <a:chOff x="5000400" y="4773600"/>
                  <a:chExt cx="1071720" cy="360"/>
                </a:xfrm>
              </p:grpSpPr>
              <p:sp>
                <p:nvSpPr>
                  <p:cNvPr id="1037" name="直接连接符 33"/>
                  <p:cNvSpPr/>
                  <p:nvPr/>
                </p:nvSpPr>
                <p:spPr>
                  <a:xfrm>
                    <a:off x="5000400" y="4773600"/>
                    <a:ext cx="10717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 txBox="1"/>
                  <p:nvPr/>
                </p:nvSpPr>
                <p:spPr>
                  <a:xfrm>
                    <a:off x="5000400" y="4773600"/>
                    <a:ext cx="1071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4978080" y="3980160"/>
                  <a:ext cx="1071720" cy="360"/>
                  <a:chOff x="4978080" y="3980160"/>
                  <a:chExt cx="1071720" cy="360"/>
                </a:xfrm>
              </p:grpSpPr>
              <p:sp>
                <p:nvSpPr>
                  <p:cNvPr id="1040" name="直接连接符 34"/>
                  <p:cNvSpPr/>
                  <p:nvPr/>
                </p:nvSpPr>
                <p:spPr>
                  <a:xfrm>
                    <a:off x="4978080" y="3980160"/>
                    <a:ext cx="10717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 txBox="1"/>
                  <p:nvPr/>
                </p:nvSpPr>
                <p:spPr>
                  <a:xfrm>
                    <a:off x="4978080" y="3980160"/>
                    <a:ext cx="1071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2" name="Text Box 18"/>
            <p:cNvSpPr/>
            <p:nvPr/>
          </p:nvSpPr>
          <p:spPr>
            <a:xfrm>
              <a:off x="4792680" y="3846240"/>
              <a:ext cx="5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文鼎CS书宋二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-22320" y="115920"/>
            <a:ext cx="3245040" cy="525600"/>
            <a:chOff x="-22320" y="115920"/>
            <a:chExt cx="3245040" cy="525600"/>
          </a:xfrm>
        </p:grpSpPr>
        <p:pic>
          <p:nvPicPr>
            <p:cNvPr id="104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28160" y="115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-22320" y="210960"/>
              <a:ext cx="430200" cy="273600"/>
              <a:chOff x="-22320" y="210960"/>
              <a:chExt cx="430200" cy="27360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20320" y="375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95840" y="338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20320" y="248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5840" y="225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2320" y="354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2320" y="326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2320" y="239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2320" y="210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4" name="TextBox 1"/>
          <p:cNvSpPr/>
          <p:nvPr/>
        </p:nvSpPr>
        <p:spPr>
          <a:xfrm>
            <a:off x="422280" y="12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"/>
          <p:cNvSpPr/>
          <p:nvPr/>
        </p:nvSpPr>
        <p:spPr>
          <a:xfrm>
            <a:off x="1143000" y="78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0÷26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组合 3"/>
          <p:cNvGrpSpPr/>
          <p:nvPr/>
        </p:nvGrpSpPr>
        <p:grpSpPr>
          <a:xfrm>
            <a:off x="3041640" y="2371680"/>
            <a:ext cx="1654200" cy="1309320"/>
            <a:chOff x="3041640" y="2371680"/>
            <a:chExt cx="1654200" cy="1309320"/>
          </a:xfrm>
        </p:grpSpPr>
        <p:sp>
          <p:nvSpPr>
            <p:cNvPr id="1057" name="TextBox 4"/>
            <p:cNvSpPr/>
            <p:nvPr/>
          </p:nvSpPr>
          <p:spPr>
            <a:xfrm>
              <a:off x="3041640" y="23716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6  2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0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组合 27"/>
            <p:cNvGrpSpPr/>
            <p:nvPr/>
          </p:nvGrpSpPr>
          <p:grpSpPr>
            <a:xfrm>
              <a:off x="3170520" y="2724480"/>
              <a:ext cx="1525320" cy="956520"/>
              <a:chOff x="3170520" y="2724480"/>
              <a:chExt cx="1525320" cy="956520"/>
            </a:xfrm>
          </p:grpSpPr>
          <p:sp>
            <p:nvSpPr>
              <p:cNvPr id="1059" name="弧形 6"/>
              <p:cNvSpPr/>
              <p:nvPr/>
            </p:nvSpPr>
            <p:spPr>
              <a:xfrm rot="1018800">
                <a:off x="3294720" y="27522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3624480" y="3571920"/>
                <a:ext cx="1071360" cy="360"/>
                <a:chOff x="3624480" y="3571920"/>
                <a:chExt cx="1071360" cy="360"/>
              </a:xfrm>
            </p:grpSpPr>
            <p:sp>
              <p:nvSpPr>
                <p:cNvPr id="1061" name="直接连接符 7"/>
                <p:cNvSpPr/>
                <p:nvPr/>
              </p:nvSpPr>
              <p:spPr>
                <a:xfrm>
                  <a:off x="3624480" y="35719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>
                  <a:off x="3624480" y="35719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3601800" y="2778480"/>
                <a:ext cx="1071360" cy="360"/>
                <a:chOff x="3601800" y="2778480"/>
                <a:chExt cx="1071360" cy="360"/>
              </a:xfrm>
            </p:grpSpPr>
            <p:sp>
              <p:nvSpPr>
                <p:cNvPr id="1064" name="直接连接符 8"/>
                <p:cNvSpPr/>
                <p:nvPr/>
              </p:nvSpPr>
              <p:spPr>
                <a:xfrm>
                  <a:off x="3601800" y="27784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 txBox="1"/>
                <p:nvPr/>
              </p:nvSpPr>
              <p:spPr>
                <a:xfrm>
                  <a:off x="3601800" y="27784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6" name="组合 30"/>
          <p:cNvGrpSpPr/>
          <p:nvPr/>
        </p:nvGrpSpPr>
        <p:grpSpPr>
          <a:xfrm>
            <a:off x="4071960" y="500040"/>
            <a:ext cx="4071960" cy="1343160"/>
            <a:chOff x="4071960" y="500040"/>
            <a:chExt cx="4071960" cy="1343160"/>
          </a:xfrm>
        </p:grpSpPr>
        <p:pic>
          <p:nvPicPr>
            <p:cNvPr id="1067" name="图片 11" descr="000.gif"/>
            <p:cNvPicPr/>
            <p:nvPr/>
          </p:nvPicPr>
          <p:blipFill>
            <a:blip r:embed="rId8"/>
            <a:stretch/>
          </p:blipFill>
          <p:spPr>
            <a:xfrm>
              <a:off x="7072560" y="500040"/>
              <a:ext cx="107136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TextBox 9"/>
            <p:cNvSpPr/>
            <p:nvPr/>
          </p:nvSpPr>
          <p:spPr>
            <a:xfrm>
              <a:off x="4071960" y="9288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怎样能很快想出商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标注 10"/>
            <p:cNvSpPr/>
            <p:nvPr/>
          </p:nvSpPr>
          <p:spPr>
            <a:xfrm>
              <a:off x="4143240" y="928800"/>
              <a:ext cx="2786040" cy="500040"/>
            </a:xfrm>
            <a:prstGeom prst="wedgeRoundRectCallout">
              <a:avLst>
                <a:gd name="adj1" fmla="val 57773"/>
                <a:gd name="adj2" fmla="val 154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Box 18"/>
          <p:cNvSpPr/>
          <p:nvPr/>
        </p:nvSpPr>
        <p:spPr>
          <a:xfrm>
            <a:off x="7365960" y="232236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圆角矩形 21"/>
          <p:cNvSpPr/>
          <p:nvPr/>
        </p:nvSpPr>
        <p:spPr>
          <a:xfrm>
            <a:off x="2722680" y="2228760"/>
            <a:ext cx="5643360" cy="3000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22"/>
          <p:cNvSpPr/>
          <p:nvPr/>
        </p:nvSpPr>
        <p:spPr>
          <a:xfrm>
            <a:off x="3340080" y="39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商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8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小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32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里面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有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4"/>
          <p:cNvSpPr/>
          <p:nvPr/>
        </p:nvSpPr>
        <p:spPr>
          <a:xfrm>
            <a:off x="7388280" y="4229280"/>
            <a:ext cx="3585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1"/>
          <p:cNvSpPr/>
          <p:nvPr/>
        </p:nvSpPr>
        <p:spPr>
          <a:xfrm>
            <a:off x="3038760" y="242892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2"/>
          <p:cNvSpPr/>
          <p:nvPr/>
        </p:nvSpPr>
        <p:spPr>
          <a:xfrm>
            <a:off x="6651720" y="3132000"/>
            <a:ext cx="142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 3 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37"/>
          <p:cNvGrpSpPr/>
          <p:nvPr/>
        </p:nvGrpSpPr>
        <p:grpSpPr>
          <a:xfrm>
            <a:off x="5162400" y="2371680"/>
            <a:ext cx="2560680" cy="2772000"/>
            <a:chOff x="5162400" y="2371680"/>
            <a:chExt cx="2560680" cy="2772000"/>
          </a:xfrm>
        </p:grpSpPr>
        <p:grpSp>
          <p:nvGrpSpPr>
            <p:cNvPr id="1077" name="组合 35"/>
            <p:cNvGrpSpPr/>
            <p:nvPr/>
          </p:nvGrpSpPr>
          <p:grpSpPr>
            <a:xfrm>
              <a:off x="5162400" y="2371680"/>
              <a:ext cx="2560680" cy="2772000"/>
              <a:chOff x="5162400" y="2371680"/>
              <a:chExt cx="2560680" cy="2772000"/>
            </a:xfrm>
          </p:grpSpPr>
          <p:grpSp>
            <p:nvGrpSpPr>
              <p:cNvPr id="1078" name="组合 34"/>
              <p:cNvGrpSpPr/>
              <p:nvPr/>
            </p:nvGrpSpPr>
            <p:grpSpPr>
              <a:xfrm>
                <a:off x="6068520" y="2371680"/>
                <a:ext cx="1654560" cy="1309320"/>
                <a:chOff x="6068520" y="2371680"/>
                <a:chExt cx="1654560" cy="1309320"/>
              </a:xfrm>
            </p:grpSpPr>
            <p:grpSp>
              <p:nvGrpSpPr>
                <p:cNvPr id="1079" name="组合 12"/>
                <p:cNvGrpSpPr/>
                <p:nvPr/>
              </p:nvGrpSpPr>
              <p:grpSpPr>
                <a:xfrm>
                  <a:off x="6068520" y="2371680"/>
                  <a:ext cx="1632240" cy="1309320"/>
                  <a:chOff x="6068520" y="2371680"/>
                  <a:chExt cx="1632240" cy="1309320"/>
                </a:xfrm>
              </p:grpSpPr>
              <p:sp>
                <p:nvSpPr>
                  <p:cNvPr id="1080" name="TextBox 13"/>
                  <p:cNvSpPr/>
                  <p:nvPr/>
                </p:nvSpPr>
                <p:spPr>
                  <a:xfrm>
                    <a:off x="6068520" y="2371680"/>
                    <a:ext cx="91476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</a:t>
                    </a:r>
                    <a:r>
                      <a:rPr b="0" lang="en-US" sz="2500" spc="-1" strike="noStrike">
                        <a:solidFill>
                          <a:srgbClr val="ff0000"/>
                        </a:solidFill>
                        <a:latin typeface="Arial"/>
                      </a:rPr>
                      <a:t> 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2 6  2  4  0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2500" spc="-1" strike="noStrike">
                        <a:solidFill>
                          <a:srgbClr val="ff0000"/>
                        </a:solidFill>
                        <a:latin typeface="Arial"/>
                      </a:rPr>
                      <a:t>  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1" name="组合 27"/>
                  <p:cNvGrpSpPr/>
                  <p:nvPr/>
                </p:nvGrpSpPr>
                <p:grpSpPr>
                  <a:xfrm>
                    <a:off x="6197400" y="2724480"/>
                    <a:ext cx="1503360" cy="956520"/>
                    <a:chOff x="6197400" y="2724480"/>
                    <a:chExt cx="1503360" cy="956520"/>
                  </a:xfrm>
                </p:grpSpPr>
                <p:sp>
                  <p:nvSpPr>
                    <p:cNvPr id="1082" name="弧形 15"/>
                    <p:cNvSpPr/>
                    <p:nvPr/>
                  </p:nvSpPr>
                  <p:spPr>
                    <a:xfrm rot="1018800">
                      <a:off x="6321600" y="2752200"/>
                      <a:ext cx="325080" cy="90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325123" h="900885">
                          <a:moveTo>
                            <a:pt x="162561" y="0"/>
                          </a:moveTo>
                          <a:cubicBezTo>
                            <a:pt x="252341" y="0"/>
                            <a:pt x="325122" y="201670"/>
                            <a:pt x="325122" y="450442"/>
                          </a:cubicBezTo>
                          <a:lnTo>
                            <a:pt x="162561" y="450442"/>
                          </a:lnTo>
                          <a:close/>
                        </a:path>
                        <a:path fill="none" w="325123" h="900885">
                          <a:moveTo>
                            <a:pt x="162561" y="0"/>
                          </a:moveTo>
                          <a:cubicBezTo>
                            <a:pt x="252341" y="0"/>
                            <a:pt x="325122" y="201670"/>
                            <a:pt x="325122" y="45044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6628680" y="2778480"/>
                      <a:ext cx="1072080" cy="360"/>
                      <a:chOff x="6628680" y="2778480"/>
                      <a:chExt cx="1072080" cy="360"/>
                    </a:xfrm>
                  </p:grpSpPr>
                  <p:sp>
                    <p:nvSpPr>
                      <p:cNvPr id="1084" name="直接连接符 17"/>
                      <p:cNvSpPr/>
                      <p:nvPr/>
                    </p:nvSpPr>
                    <p:spPr>
                      <a:xfrm>
                        <a:off x="6628680" y="2778480"/>
                        <a:ext cx="10720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5" name=""/>
                      <p:cNvSpPr txBox="1"/>
                      <p:nvPr/>
                    </p:nvSpPr>
                    <p:spPr>
                      <a:xfrm>
                        <a:off x="6628680" y="2778480"/>
                        <a:ext cx="107208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86" name="矩形 19"/>
                <p:cNvSpPr/>
                <p:nvPr/>
              </p:nvSpPr>
              <p:spPr>
                <a:xfrm>
                  <a:off x="7365960" y="2371680"/>
                  <a:ext cx="357120" cy="3571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右箭头 20"/>
              <p:cNvSpPr/>
              <p:nvPr/>
            </p:nvSpPr>
            <p:spPr>
              <a:xfrm>
                <a:off x="5162400" y="3014640"/>
                <a:ext cx="642960" cy="214200"/>
              </a:xfrm>
              <a:prstGeom prst="rightArrow">
                <a:avLst>
                  <a:gd name="adj1" fmla="val 50000"/>
                  <a:gd name="adj2" fmla="val 50028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TextBox 23"/>
              <p:cNvSpPr/>
              <p:nvPr/>
            </p:nvSpPr>
            <p:spPr>
              <a:xfrm>
                <a:off x="6282720" y="422928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cc66"/>
                    </a:solidFill>
                    <a:latin typeface="方正楷体简体"/>
                    <a:ea typeface="方正楷体简体"/>
                  </a:rPr>
                  <a:t>改商（ </a:t>
                </a:r>
                <a:r>
                  <a:rPr b="0" lang="zh-CN" sz="2500" spc="-1" strike="noStrike">
                    <a:solidFill>
                      <a:srgbClr val="ff0000"/>
                    </a:solidFill>
                    <a:latin typeface="方正楷体简体"/>
                    <a:ea typeface="方正楷体简体"/>
                  </a:rPr>
                  <a:t>  </a:t>
                </a:r>
                <a:r>
                  <a:rPr b="0" lang="zh-CN" sz="2500" spc="-1" strike="noStrike">
                    <a:solidFill>
                      <a:srgbClr val="00cc66"/>
                    </a:solidFill>
                    <a:latin typeface="方正楷体简体"/>
                    <a:ea typeface="方正楷体简体"/>
                  </a:rPr>
                  <a:t>）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6651360" y="3571920"/>
              <a:ext cx="1071720" cy="360"/>
              <a:chOff x="6651360" y="3571920"/>
              <a:chExt cx="1071720" cy="360"/>
            </a:xfrm>
          </p:grpSpPr>
          <p:sp>
            <p:nvSpPr>
              <p:cNvPr id="1090" name="直接连接符 33"/>
              <p:cNvSpPr/>
              <p:nvPr/>
            </p:nvSpPr>
            <p:spPr>
              <a:xfrm>
                <a:off x="6651360" y="3571920"/>
                <a:ext cx="10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6651360" y="357192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2" name="TextBox 36"/>
          <p:cNvSpPr/>
          <p:nvPr/>
        </p:nvSpPr>
        <p:spPr>
          <a:xfrm>
            <a:off x="2813040" y="7794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29"/>
          <p:cNvGrpSpPr/>
          <p:nvPr/>
        </p:nvGrpSpPr>
        <p:grpSpPr>
          <a:xfrm>
            <a:off x="428760" y="2928960"/>
            <a:ext cx="2071440" cy="2120760"/>
            <a:chOff x="428760" y="2928960"/>
            <a:chExt cx="2071440" cy="2120760"/>
          </a:xfrm>
        </p:grpSpPr>
        <p:pic>
          <p:nvPicPr>
            <p:cNvPr id="1094" name="图片 28" descr="0.gif"/>
            <p:cNvPicPr/>
            <p:nvPr/>
          </p:nvPicPr>
          <p:blipFill>
            <a:blip r:embed="rId9"/>
            <a:stretch/>
          </p:blipFill>
          <p:spPr>
            <a:xfrm>
              <a:off x="500040" y="4000320"/>
              <a:ext cx="9997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27"/>
            <p:cNvGrpSpPr/>
            <p:nvPr/>
          </p:nvGrpSpPr>
          <p:grpSpPr>
            <a:xfrm>
              <a:off x="428760" y="2928960"/>
              <a:ext cx="2071440" cy="1000080"/>
              <a:chOff x="428760" y="2928960"/>
              <a:chExt cx="2071440" cy="1000080"/>
            </a:xfrm>
          </p:grpSpPr>
          <p:sp>
            <p:nvSpPr>
              <p:cNvPr id="1096" name="TextBox 25"/>
              <p:cNvSpPr/>
              <p:nvPr/>
            </p:nvSpPr>
            <p:spPr>
              <a:xfrm>
                <a:off x="571320" y="3000240"/>
                <a:ext cx="9140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把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看作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3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来试商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标注 26"/>
              <p:cNvSpPr/>
              <p:nvPr/>
            </p:nvSpPr>
            <p:spPr>
              <a:xfrm>
                <a:off x="428760" y="2928960"/>
                <a:ext cx="2071440" cy="1000080"/>
              </a:xfrm>
              <a:prstGeom prst="wedgeRoundRectCallout">
                <a:avLst>
                  <a:gd name="adj1" fmla="val 703"/>
                  <a:gd name="adj2" fmla="val 73550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八边形 7"/>
          <p:cNvSpPr/>
          <p:nvPr/>
        </p:nvSpPr>
        <p:spPr>
          <a:xfrm>
            <a:off x="385920" y="7794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39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291960" y="3784680"/>
            <a:ext cx="682920" cy="8287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37"/>
          <p:cNvSpPr/>
          <p:nvPr/>
        </p:nvSpPr>
        <p:spPr>
          <a:xfrm>
            <a:off x="939960" y="3164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看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试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圆角矩形标注 38"/>
          <p:cNvSpPr/>
          <p:nvPr/>
        </p:nvSpPr>
        <p:spPr>
          <a:xfrm>
            <a:off x="984240" y="3141720"/>
            <a:ext cx="2087640" cy="857160"/>
          </a:xfrm>
          <a:prstGeom prst="wedgeRoundRectCallout">
            <a:avLst>
              <a:gd name="adj1" fmla="val -42810"/>
              <a:gd name="adj2" fmla="val 69833"/>
              <a:gd name="adj3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44"/>
          <p:cNvGrpSpPr/>
          <p:nvPr/>
        </p:nvGrpSpPr>
        <p:grpSpPr>
          <a:xfrm>
            <a:off x="6151680" y="2124000"/>
            <a:ext cx="2355840" cy="1114560"/>
            <a:chOff x="6151680" y="2124000"/>
            <a:chExt cx="2355840" cy="1114560"/>
          </a:xfrm>
        </p:grpSpPr>
        <p:pic>
          <p:nvPicPr>
            <p:cNvPr id="1103" name="图片 43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755480" y="2409840"/>
              <a:ext cx="752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TextBox 41"/>
            <p:cNvSpPr/>
            <p:nvPr/>
          </p:nvSpPr>
          <p:spPr>
            <a:xfrm>
              <a:off x="6151680" y="2146320"/>
              <a:ext cx="9147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可以商几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圆角矩形标注 42"/>
            <p:cNvSpPr/>
            <p:nvPr/>
          </p:nvSpPr>
          <p:spPr>
            <a:xfrm>
              <a:off x="6196680" y="2124000"/>
              <a:ext cx="1572480" cy="500040"/>
            </a:xfrm>
            <a:prstGeom prst="wedgeRoundRectCallout">
              <a:avLst>
                <a:gd name="adj1" fmla="val 45537"/>
                <a:gd name="adj2" fmla="val 85638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组合 18"/>
          <p:cNvGrpSpPr/>
          <p:nvPr/>
        </p:nvGrpSpPr>
        <p:grpSpPr>
          <a:xfrm>
            <a:off x="4572000" y="907920"/>
            <a:ext cx="3929040" cy="1214640"/>
            <a:chOff x="4572000" y="907920"/>
            <a:chExt cx="3929040" cy="1214640"/>
          </a:xfrm>
        </p:grpSpPr>
        <p:pic>
          <p:nvPicPr>
            <p:cNvPr id="1107" name="图片 16" descr="00.gif"/>
            <p:cNvPicPr/>
            <p:nvPr/>
          </p:nvPicPr>
          <p:blipFill>
            <a:blip r:embed="rId3"/>
            <a:stretch/>
          </p:blipFill>
          <p:spPr>
            <a:xfrm>
              <a:off x="7358040" y="907920"/>
              <a:ext cx="1143000" cy="119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13"/>
            <p:cNvGrpSpPr/>
            <p:nvPr/>
          </p:nvGrpSpPr>
          <p:grpSpPr>
            <a:xfrm>
              <a:off x="4572000" y="1207800"/>
              <a:ext cx="2571840" cy="914760"/>
              <a:chOff x="4572000" y="1207800"/>
              <a:chExt cx="2571840" cy="914760"/>
            </a:xfrm>
          </p:grpSpPr>
          <p:sp>
            <p:nvSpPr>
              <p:cNvPr id="1109" name="TextBox 11"/>
              <p:cNvSpPr/>
              <p:nvPr/>
            </p:nvSpPr>
            <p:spPr>
              <a:xfrm>
                <a:off x="4572000" y="1207800"/>
                <a:ext cx="9144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想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10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个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是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0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标注 12"/>
              <p:cNvSpPr/>
              <p:nvPr/>
            </p:nvSpPr>
            <p:spPr>
              <a:xfrm>
                <a:off x="4572000" y="1207800"/>
                <a:ext cx="2571840" cy="500400"/>
              </a:xfrm>
              <a:prstGeom prst="wedgeRoundRectCallout">
                <a:avLst>
                  <a:gd name="adj1" fmla="val 58175"/>
                  <a:gd name="adj2" fmla="val -2967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TextBox 14"/>
          <p:cNvSpPr/>
          <p:nvPr/>
        </p:nvSpPr>
        <p:spPr>
          <a:xfrm>
            <a:off x="1071720" y="1622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6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4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多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可以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17"/>
          <p:cNvGrpSpPr/>
          <p:nvPr/>
        </p:nvGrpSpPr>
        <p:grpSpPr>
          <a:xfrm>
            <a:off x="939960" y="614520"/>
            <a:ext cx="3224160" cy="2017440"/>
            <a:chOff x="939960" y="614520"/>
            <a:chExt cx="3224160" cy="2017440"/>
          </a:xfrm>
        </p:grpSpPr>
        <p:grpSp>
          <p:nvGrpSpPr>
            <p:cNvPr id="1113" name="组合 12"/>
            <p:cNvGrpSpPr/>
            <p:nvPr/>
          </p:nvGrpSpPr>
          <p:grpSpPr>
            <a:xfrm>
              <a:off x="1581840" y="729720"/>
              <a:ext cx="1600920" cy="1064880"/>
              <a:chOff x="1581840" y="729720"/>
              <a:chExt cx="1600920" cy="1064880"/>
            </a:xfrm>
          </p:grpSpPr>
          <p:sp>
            <p:nvSpPr>
              <p:cNvPr id="1114" name="TextBox 7"/>
              <p:cNvSpPr/>
              <p:nvPr/>
            </p:nvSpPr>
            <p:spPr>
              <a:xfrm>
                <a:off x="1581840" y="729720"/>
                <a:ext cx="897120" cy="7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9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6  2  4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组合 27"/>
              <p:cNvGrpSpPr/>
              <p:nvPr/>
            </p:nvGrpSpPr>
            <p:grpSpPr>
              <a:xfrm>
                <a:off x="1730880" y="1006200"/>
                <a:ext cx="1451880" cy="788400"/>
                <a:chOff x="1730880" y="1006200"/>
                <a:chExt cx="1451880" cy="788400"/>
              </a:xfrm>
            </p:grpSpPr>
            <p:sp>
              <p:nvSpPr>
                <p:cNvPr id="1116" name="弧形 9"/>
                <p:cNvSpPr/>
                <p:nvPr/>
              </p:nvSpPr>
              <p:spPr>
                <a:xfrm rot="1018800">
                  <a:off x="1829880" y="1036800"/>
                  <a:ext cx="318960" cy="72684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2131200" y="1073160"/>
                  <a:ext cx="1051560" cy="360"/>
                  <a:chOff x="2131200" y="1073160"/>
                  <a:chExt cx="1051560" cy="360"/>
                </a:xfrm>
              </p:grpSpPr>
              <p:sp>
                <p:nvSpPr>
                  <p:cNvPr id="1118" name="直接连接符 10"/>
                  <p:cNvSpPr/>
                  <p:nvPr/>
                </p:nvSpPr>
                <p:spPr>
                  <a:xfrm>
                    <a:off x="2131200" y="1073160"/>
                    <a:ext cx="1051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 txBox="1"/>
                  <p:nvPr/>
                </p:nvSpPr>
                <p:spPr>
                  <a:xfrm>
                    <a:off x="2131200" y="1073160"/>
                    <a:ext cx="1051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0" name="圆角矩形 15"/>
            <p:cNvSpPr/>
            <p:nvPr/>
          </p:nvSpPr>
          <p:spPr>
            <a:xfrm>
              <a:off x="939960" y="614520"/>
              <a:ext cx="3224160" cy="2017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矩形 25"/>
          <p:cNvSpPr/>
          <p:nvPr/>
        </p:nvSpPr>
        <p:spPr>
          <a:xfrm>
            <a:off x="4071600" y="312732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33"/>
          <p:cNvSpPr/>
          <p:nvPr/>
        </p:nvSpPr>
        <p:spPr>
          <a:xfrm>
            <a:off x="4681440" y="3857760"/>
            <a:ext cx="14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 3 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40"/>
          <p:cNvSpPr/>
          <p:nvPr/>
        </p:nvSpPr>
        <p:spPr>
          <a:xfrm>
            <a:off x="3681360" y="4548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0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8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0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余下的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40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里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有（     ）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47"/>
          <p:cNvGrpSpPr/>
          <p:nvPr/>
        </p:nvGrpSpPr>
        <p:grpSpPr>
          <a:xfrm>
            <a:off x="3557520" y="2930400"/>
            <a:ext cx="3500640" cy="2928960"/>
            <a:chOff x="3557520" y="2930400"/>
            <a:chExt cx="3500640" cy="2928960"/>
          </a:xfrm>
        </p:grpSpPr>
        <p:grpSp>
          <p:nvGrpSpPr>
            <p:cNvPr id="1125" name=""/>
            <p:cNvGrpSpPr/>
            <p:nvPr/>
          </p:nvGrpSpPr>
          <p:grpSpPr>
            <a:xfrm>
              <a:off x="4689360" y="4288320"/>
              <a:ext cx="1071720" cy="360"/>
              <a:chOff x="4689360" y="4288320"/>
              <a:chExt cx="1071720" cy="360"/>
            </a:xfrm>
          </p:grpSpPr>
          <p:sp>
            <p:nvSpPr>
              <p:cNvPr id="1126" name="直接连接符 34"/>
              <p:cNvSpPr/>
              <p:nvPr/>
            </p:nvSpPr>
            <p:spPr>
              <a:xfrm>
                <a:off x="4689360" y="4288320"/>
                <a:ext cx="10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4689360" y="428832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组合 46"/>
            <p:cNvGrpSpPr/>
            <p:nvPr/>
          </p:nvGrpSpPr>
          <p:grpSpPr>
            <a:xfrm>
              <a:off x="3557520" y="2930400"/>
              <a:ext cx="3500640" cy="2928960"/>
              <a:chOff x="3557520" y="2930400"/>
              <a:chExt cx="3500640" cy="2928960"/>
            </a:xfrm>
          </p:grpSpPr>
          <p:grpSp>
            <p:nvGrpSpPr>
              <p:cNvPr id="1129" name="组合 26"/>
              <p:cNvGrpSpPr/>
              <p:nvPr/>
            </p:nvGrpSpPr>
            <p:grpSpPr>
              <a:xfrm>
                <a:off x="4106520" y="3107520"/>
                <a:ext cx="1631880" cy="1309320"/>
                <a:chOff x="4106520" y="3107520"/>
                <a:chExt cx="1631880" cy="1309320"/>
              </a:xfrm>
            </p:grpSpPr>
            <p:sp>
              <p:nvSpPr>
                <p:cNvPr id="1130" name="TextBox 27"/>
                <p:cNvSpPr/>
                <p:nvPr/>
              </p:nvSpPr>
              <p:spPr>
                <a:xfrm>
                  <a:off x="4106520" y="3107520"/>
                  <a:ext cx="9144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        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2 6  2  4  0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组合 27"/>
                <p:cNvGrpSpPr/>
                <p:nvPr/>
              </p:nvGrpSpPr>
              <p:grpSpPr>
                <a:xfrm>
                  <a:off x="4235400" y="3460320"/>
                  <a:ext cx="1503000" cy="956520"/>
                  <a:chOff x="4235400" y="3460320"/>
                  <a:chExt cx="1503000" cy="956520"/>
                </a:xfrm>
              </p:grpSpPr>
              <p:sp>
                <p:nvSpPr>
                  <p:cNvPr id="1132" name="弧形 29"/>
                  <p:cNvSpPr/>
                  <p:nvPr/>
                </p:nvSpPr>
                <p:spPr>
                  <a:xfrm rot="1018800">
                    <a:off x="4359600" y="3488040"/>
                    <a:ext cx="325080" cy="900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325123" h="900885">
                        <a:moveTo>
                          <a:pt x="162561" y="0"/>
                        </a:moveTo>
                        <a:cubicBezTo>
                          <a:pt x="252341" y="0"/>
                          <a:pt x="325122" y="201670"/>
                          <a:pt x="325122" y="450442"/>
                        </a:cubicBezTo>
                        <a:lnTo>
                          <a:pt x="162561" y="450442"/>
                        </a:lnTo>
                        <a:close/>
                      </a:path>
                      <a:path fill="none" w="325123" h="900885">
                        <a:moveTo>
                          <a:pt x="162561" y="0"/>
                        </a:moveTo>
                        <a:cubicBezTo>
                          <a:pt x="252341" y="0"/>
                          <a:pt x="325122" y="201670"/>
                          <a:pt x="325122" y="45044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4666680" y="3514320"/>
                    <a:ext cx="1071720" cy="360"/>
                    <a:chOff x="4666680" y="3514320"/>
                    <a:chExt cx="1071720" cy="360"/>
                  </a:xfrm>
                </p:grpSpPr>
                <p:sp>
                  <p:nvSpPr>
                    <p:cNvPr id="1134" name="直接连接符 31"/>
                    <p:cNvSpPr/>
                    <p:nvPr/>
                  </p:nvSpPr>
                  <p:spPr>
                    <a:xfrm>
                      <a:off x="4666680" y="3514320"/>
                      <a:ext cx="1071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 txBox="1"/>
                    <p:nvPr/>
                  </p:nvSpPr>
                  <p:spPr>
                    <a:xfrm>
                      <a:off x="4666680" y="3514320"/>
                      <a:ext cx="1071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36" name="矩形 35"/>
              <p:cNvSpPr/>
              <p:nvPr/>
            </p:nvSpPr>
            <p:spPr>
              <a:xfrm>
                <a:off x="5403600" y="3096360"/>
                <a:ext cx="357120" cy="357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45"/>
              <p:cNvSpPr/>
              <p:nvPr/>
            </p:nvSpPr>
            <p:spPr>
              <a:xfrm>
                <a:off x="3557520" y="2930400"/>
                <a:ext cx="3500640" cy="29289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8" name="TextBox 48"/>
          <p:cNvSpPr/>
          <p:nvPr/>
        </p:nvSpPr>
        <p:spPr>
          <a:xfrm>
            <a:off x="5396040" y="304812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49"/>
          <p:cNvSpPr/>
          <p:nvPr/>
        </p:nvSpPr>
        <p:spPr>
          <a:xfrm>
            <a:off x="728640" y="5799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面这几种方法都对，哪种方法比较简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48"/>
          <p:cNvSpPr/>
          <p:nvPr/>
        </p:nvSpPr>
        <p:spPr>
          <a:xfrm>
            <a:off x="4446720" y="53276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76"/>
          <p:cNvGrpSpPr/>
          <p:nvPr/>
        </p:nvGrpSpPr>
        <p:grpSpPr>
          <a:xfrm>
            <a:off x="1071720" y="1137960"/>
            <a:ext cx="5072040" cy="2734920"/>
            <a:chOff x="1071720" y="1137960"/>
            <a:chExt cx="5072040" cy="2734920"/>
          </a:xfrm>
        </p:grpSpPr>
        <p:grpSp>
          <p:nvGrpSpPr>
            <p:cNvPr id="1142" name="组合 4"/>
            <p:cNvGrpSpPr/>
            <p:nvPr/>
          </p:nvGrpSpPr>
          <p:grpSpPr>
            <a:xfrm>
              <a:off x="1071720" y="1140840"/>
              <a:ext cx="1346040" cy="956880"/>
              <a:chOff x="1071720" y="1140840"/>
              <a:chExt cx="1346040" cy="956880"/>
            </a:xfrm>
          </p:grpSpPr>
          <p:sp>
            <p:nvSpPr>
              <p:cNvPr id="1143" name="TextBox 5"/>
              <p:cNvSpPr/>
              <p:nvPr/>
            </p:nvSpPr>
            <p:spPr>
              <a:xfrm>
                <a:off x="1071720" y="116640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1 6  9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4" name="组合 27"/>
              <p:cNvGrpSpPr/>
              <p:nvPr/>
            </p:nvGrpSpPr>
            <p:grpSpPr>
              <a:xfrm>
                <a:off x="1189080" y="1140840"/>
                <a:ext cx="1228680" cy="956880"/>
                <a:chOff x="1189080" y="1140840"/>
                <a:chExt cx="1228680" cy="956880"/>
              </a:xfrm>
            </p:grpSpPr>
            <p:sp>
              <p:nvSpPr>
                <p:cNvPr id="1145" name="弧形 7"/>
                <p:cNvSpPr/>
                <p:nvPr/>
              </p:nvSpPr>
              <p:spPr>
                <a:xfrm rot="1018800">
                  <a:off x="1313280" y="116856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6" name=""/>
                <p:cNvGrpSpPr/>
                <p:nvPr/>
              </p:nvGrpSpPr>
              <p:grpSpPr>
                <a:xfrm>
                  <a:off x="1620360" y="1194840"/>
                  <a:ext cx="797400" cy="360"/>
                  <a:chOff x="1620360" y="1194840"/>
                  <a:chExt cx="797400" cy="360"/>
                </a:xfrm>
              </p:grpSpPr>
              <p:sp>
                <p:nvSpPr>
                  <p:cNvPr id="1147" name="直接连接符 9"/>
                  <p:cNvSpPr/>
                  <p:nvPr/>
                </p:nvSpPr>
                <p:spPr>
                  <a:xfrm>
                    <a:off x="1620360" y="1194840"/>
                    <a:ext cx="797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 txBox="1"/>
                  <p:nvPr/>
                </p:nvSpPr>
                <p:spPr>
                  <a:xfrm>
                    <a:off x="1620360" y="1194840"/>
                    <a:ext cx="797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9" name="组合 32"/>
            <p:cNvGrpSpPr/>
            <p:nvPr/>
          </p:nvGrpSpPr>
          <p:grpSpPr>
            <a:xfrm>
              <a:off x="4463280" y="1137960"/>
              <a:ext cx="1654200" cy="956880"/>
              <a:chOff x="4463280" y="1137960"/>
              <a:chExt cx="1654200" cy="956880"/>
            </a:xfrm>
          </p:grpSpPr>
          <p:sp>
            <p:nvSpPr>
              <p:cNvPr id="1150" name="TextBox 33"/>
              <p:cNvSpPr/>
              <p:nvPr/>
            </p:nvSpPr>
            <p:spPr>
              <a:xfrm>
                <a:off x="4463280" y="11635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5  2  0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组合 27"/>
              <p:cNvGrpSpPr/>
              <p:nvPr/>
            </p:nvGrpSpPr>
            <p:grpSpPr>
              <a:xfrm>
                <a:off x="4580640" y="1137960"/>
                <a:ext cx="1536840" cy="956880"/>
                <a:chOff x="4580640" y="1137960"/>
                <a:chExt cx="1536840" cy="956880"/>
              </a:xfrm>
            </p:grpSpPr>
            <p:sp>
              <p:nvSpPr>
                <p:cNvPr id="1152" name="弧形 35"/>
                <p:cNvSpPr/>
                <p:nvPr/>
              </p:nvSpPr>
              <p:spPr>
                <a:xfrm rot="1018800">
                  <a:off x="4704840" y="116568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3" name=""/>
                <p:cNvGrpSpPr/>
                <p:nvPr/>
              </p:nvGrpSpPr>
              <p:grpSpPr>
                <a:xfrm>
                  <a:off x="5011920" y="1191960"/>
                  <a:ext cx="1105560" cy="360"/>
                  <a:chOff x="5011920" y="1191960"/>
                  <a:chExt cx="1105560" cy="360"/>
                </a:xfrm>
              </p:grpSpPr>
              <p:sp>
                <p:nvSpPr>
                  <p:cNvPr id="1154" name="直接连接符 36"/>
                  <p:cNvSpPr/>
                  <p:nvPr/>
                </p:nvSpPr>
                <p:spPr>
                  <a:xfrm>
                    <a:off x="5011920" y="1191960"/>
                    <a:ext cx="110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 txBox="1"/>
                  <p:nvPr/>
                </p:nvSpPr>
                <p:spPr>
                  <a:xfrm>
                    <a:off x="5011920" y="1191960"/>
                    <a:ext cx="1105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6" name="组合 37"/>
            <p:cNvGrpSpPr/>
            <p:nvPr/>
          </p:nvGrpSpPr>
          <p:grpSpPr>
            <a:xfrm>
              <a:off x="1105560" y="2916000"/>
              <a:ext cx="1665720" cy="956880"/>
              <a:chOff x="1105560" y="2916000"/>
              <a:chExt cx="1665720" cy="956880"/>
            </a:xfrm>
          </p:grpSpPr>
          <p:sp>
            <p:nvSpPr>
              <p:cNvPr id="1157" name="TextBox 38"/>
              <p:cNvSpPr/>
              <p:nvPr/>
            </p:nvSpPr>
            <p:spPr>
              <a:xfrm>
                <a:off x="1105560" y="294156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6  1  0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组合 27"/>
              <p:cNvGrpSpPr/>
              <p:nvPr/>
            </p:nvGrpSpPr>
            <p:grpSpPr>
              <a:xfrm>
                <a:off x="1222920" y="2916000"/>
                <a:ext cx="1548360" cy="956880"/>
                <a:chOff x="1222920" y="2916000"/>
                <a:chExt cx="1548360" cy="956880"/>
              </a:xfrm>
            </p:grpSpPr>
            <p:sp>
              <p:nvSpPr>
                <p:cNvPr id="1159" name="弧形 40"/>
                <p:cNvSpPr/>
                <p:nvPr/>
              </p:nvSpPr>
              <p:spPr>
                <a:xfrm rot="1018800">
                  <a:off x="1347120" y="294372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"/>
                <p:cNvGrpSpPr/>
                <p:nvPr/>
              </p:nvGrpSpPr>
              <p:grpSpPr>
                <a:xfrm>
                  <a:off x="1654200" y="2970000"/>
                  <a:ext cx="1117080" cy="360"/>
                  <a:chOff x="1654200" y="2970000"/>
                  <a:chExt cx="1117080" cy="360"/>
                </a:xfrm>
              </p:grpSpPr>
              <p:sp>
                <p:nvSpPr>
                  <p:cNvPr id="1161" name="直接连接符 41"/>
                  <p:cNvSpPr/>
                  <p:nvPr/>
                </p:nvSpPr>
                <p:spPr>
                  <a:xfrm>
                    <a:off x="1654200" y="2970000"/>
                    <a:ext cx="111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 txBox="1"/>
                  <p:nvPr/>
                </p:nvSpPr>
                <p:spPr>
                  <a:xfrm>
                    <a:off x="1654200" y="2970000"/>
                    <a:ext cx="11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3" name="组合 42"/>
            <p:cNvGrpSpPr/>
            <p:nvPr/>
          </p:nvGrpSpPr>
          <p:grpSpPr>
            <a:xfrm>
              <a:off x="4466880" y="2912760"/>
              <a:ext cx="1676880" cy="956880"/>
              <a:chOff x="4466880" y="2912760"/>
              <a:chExt cx="1676880" cy="956880"/>
            </a:xfrm>
          </p:grpSpPr>
          <p:sp>
            <p:nvSpPr>
              <p:cNvPr id="1164" name="TextBox 43"/>
              <p:cNvSpPr/>
              <p:nvPr/>
            </p:nvSpPr>
            <p:spPr>
              <a:xfrm>
                <a:off x="4466880" y="29383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4  1  8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组合 27"/>
              <p:cNvGrpSpPr/>
              <p:nvPr/>
            </p:nvGrpSpPr>
            <p:grpSpPr>
              <a:xfrm>
                <a:off x="4584240" y="2912760"/>
                <a:ext cx="1559520" cy="956880"/>
                <a:chOff x="4584240" y="2912760"/>
                <a:chExt cx="1559520" cy="956880"/>
              </a:xfrm>
            </p:grpSpPr>
            <p:sp>
              <p:nvSpPr>
                <p:cNvPr id="1166" name="弧形 45"/>
                <p:cNvSpPr/>
                <p:nvPr/>
              </p:nvSpPr>
              <p:spPr>
                <a:xfrm rot="1018800">
                  <a:off x="4708440" y="294048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7" name=""/>
                <p:cNvGrpSpPr/>
                <p:nvPr/>
              </p:nvGrpSpPr>
              <p:grpSpPr>
                <a:xfrm>
                  <a:off x="5015520" y="2966760"/>
                  <a:ext cx="1128240" cy="360"/>
                  <a:chOff x="5015520" y="2966760"/>
                  <a:chExt cx="1128240" cy="360"/>
                </a:xfrm>
              </p:grpSpPr>
              <p:sp>
                <p:nvSpPr>
                  <p:cNvPr id="1168" name="直接连接符 46"/>
                  <p:cNvSpPr/>
                  <p:nvPr/>
                </p:nvSpPr>
                <p:spPr>
                  <a:xfrm>
                    <a:off x="5015520" y="2966760"/>
                    <a:ext cx="11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 txBox="1"/>
                  <p:nvPr/>
                </p:nvSpPr>
                <p:spPr>
                  <a:xfrm>
                    <a:off x="5015520" y="2966760"/>
                    <a:ext cx="1128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70" name="组合 77"/>
          <p:cNvGrpSpPr/>
          <p:nvPr/>
        </p:nvGrpSpPr>
        <p:grpSpPr>
          <a:xfrm>
            <a:off x="1515960" y="743040"/>
            <a:ext cx="917640" cy="1192320"/>
            <a:chOff x="1515960" y="743040"/>
            <a:chExt cx="917640" cy="1192320"/>
          </a:xfrm>
        </p:grpSpPr>
        <p:sp>
          <p:nvSpPr>
            <p:cNvPr id="1171" name="TextBox 51"/>
            <p:cNvSpPr/>
            <p:nvPr/>
          </p:nvSpPr>
          <p:spPr>
            <a:xfrm>
              <a:off x="1515960" y="74304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9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1685160" y="1935000"/>
              <a:ext cx="748440" cy="360"/>
              <a:chOff x="1685160" y="1935000"/>
              <a:chExt cx="748440" cy="360"/>
            </a:xfrm>
          </p:grpSpPr>
          <p:sp>
            <p:nvSpPr>
              <p:cNvPr id="1173" name="直接连接符 53"/>
              <p:cNvSpPr/>
              <p:nvPr/>
            </p:nvSpPr>
            <p:spPr>
              <a:xfrm>
                <a:off x="1685160" y="1935000"/>
                <a:ext cx="748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1685160" y="1935000"/>
                <a:ext cx="74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组合 78"/>
          <p:cNvGrpSpPr/>
          <p:nvPr/>
        </p:nvGrpSpPr>
        <p:grpSpPr>
          <a:xfrm>
            <a:off x="5033880" y="784080"/>
            <a:ext cx="1071720" cy="1192680"/>
            <a:chOff x="5033880" y="784080"/>
            <a:chExt cx="1071720" cy="1192680"/>
          </a:xfrm>
        </p:grpSpPr>
        <p:sp>
          <p:nvSpPr>
            <p:cNvPr id="1176" name="TextBox 57"/>
            <p:cNvSpPr/>
            <p:nvPr/>
          </p:nvSpPr>
          <p:spPr>
            <a:xfrm>
              <a:off x="5082480" y="784080"/>
              <a:ext cx="9147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5033880" y="1976400"/>
              <a:ext cx="1071720" cy="360"/>
              <a:chOff x="5033880" y="1976400"/>
              <a:chExt cx="1071720" cy="360"/>
            </a:xfrm>
          </p:grpSpPr>
          <p:sp>
            <p:nvSpPr>
              <p:cNvPr id="1178" name="直接连接符 58"/>
              <p:cNvSpPr/>
              <p:nvPr/>
            </p:nvSpPr>
            <p:spPr>
              <a:xfrm>
                <a:off x="5033880" y="1976400"/>
                <a:ext cx="1071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5033880" y="197640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79"/>
          <p:cNvGrpSpPr/>
          <p:nvPr/>
        </p:nvGrpSpPr>
        <p:grpSpPr>
          <a:xfrm>
            <a:off x="1698480" y="2554200"/>
            <a:ext cx="1073160" cy="1215000"/>
            <a:chOff x="1698480" y="2554200"/>
            <a:chExt cx="1073160" cy="1215000"/>
          </a:xfrm>
        </p:grpSpPr>
        <p:grpSp>
          <p:nvGrpSpPr>
            <p:cNvPr id="1181" name=""/>
            <p:cNvGrpSpPr/>
            <p:nvPr/>
          </p:nvGrpSpPr>
          <p:grpSpPr>
            <a:xfrm>
              <a:off x="1698480" y="3768840"/>
              <a:ext cx="1073160" cy="360"/>
              <a:chOff x="1698480" y="3768840"/>
              <a:chExt cx="1073160" cy="360"/>
            </a:xfrm>
          </p:grpSpPr>
          <p:sp>
            <p:nvSpPr>
              <p:cNvPr id="1182" name="直接连接符 67"/>
              <p:cNvSpPr/>
              <p:nvPr/>
            </p:nvSpPr>
            <p:spPr>
              <a:xfrm>
                <a:off x="1698480" y="3768840"/>
                <a:ext cx="107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1698480" y="3768840"/>
                <a:ext cx="107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TextBox 69"/>
            <p:cNvSpPr/>
            <p:nvPr/>
          </p:nvSpPr>
          <p:spPr>
            <a:xfrm>
              <a:off x="1743480" y="2554200"/>
              <a:ext cx="9158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80"/>
          <p:cNvGrpSpPr/>
          <p:nvPr/>
        </p:nvGrpSpPr>
        <p:grpSpPr>
          <a:xfrm>
            <a:off x="5068800" y="2554200"/>
            <a:ext cx="1074960" cy="1215000"/>
            <a:chOff x="5068800" y="2554200"/>
            <a:chExt cx="1074960" cy="1215000"/>
          </a:xfrm>
        </p:grpSpPr>
        <p:grpSp>
          <p:nvGrpSpPr>
            <p:cNvPr id="1186" name=""/>
            <p:cNvGrpSpPr/>
            <p:nvPr/>
          </p:nvGrpSpPr>
          <p:grpSpPr>
            <a:xfrm>
              <a:off x="5072400" y="3768840"/>
              <a:ext cx="1071360" cy="360"/>
              <a:chOff x="5072400" y="3768840"/>
              <a:chExt cx="1071360" cy="360"/>
            </a:xfrm>
          </p:grpSpPr>
          <p:sp>
            <p:nvSpPr>
              <p:cNvPr id="1187" name="直接连接符 68"/>
              <p:cNvSpPr/>
              <p:nvPr/>
            </p:nvSpPr>
            <p:spPr>
              <a:xfrm>
                <a:off x="5072400" y="3768840"/>
                <a:ext cx="1071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>
                <a:off x="5072400" y="3768840"/>
                <a:ext cx="1071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Box 70"/>
            <p:cNvSpPr/>
            <p:nvPr/>
          </p:nvSpPr>
          <p:spPr>
            <a:xfrm>
              <a:off x="5068800" y="255420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6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74"/>
          <p:cNvGrpSpPr/>
          <p:nvPr/>
        </p:nvGrpSpPr>
        <p:grpSpPr>
          <a:xfrm>
            <a:off x="2300400" y="3927600"/>
            <a:ext cx="5486400" cy="1143000"/>
            <a:chOff x="2300400" y="3927600"/>
            <a:chExt cx="5486400" cy="1143000"/>
          </a:xfrm>
        </p:grpSpPr>
        <p:pic>
          <p:nvPicPr>
            <p:cNvPr id="1191" name="图片 73" descr="33539.jpg"/>
            <p:cNvPicPr/>
            <p:nvPr/>
          </p:nvPicPr>
          <p:blipFill>
            <a:blip r:embed="rId1"/>
            <a:stretch/>
          </p:blipFill>
          <p:spPr>
            <a:xfrm>
              <a:off x="7015680" y="3927600"/>
              <a:ext cx="7711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TextBox 71"/>
            <p:cNvSpPr/>
            <p:nvPr/>
          </p:nvSpPr>
          <p:spPr>
            <a:xfrm>
              <a:off x="2300400" y="4266000"/>
              <a:ext cx="4500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你试商的过程说给同学听听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标注 72"/>
            <p:cNvSpPr/>
            <p:nvPr/>
          </p:nvSpPr>
          <p:spPr>
            <a:xfrm>
              <a:off x="2300400" y="4266000"/>
              <a:ext cx="4500720" cy="500040"/>
            </a:xfrm>
            <a:prstGeom prst="wedgeRoundRectCallout">
              <a:avLst>
                <a:gd name="adj1" fmla="val 55166"/>
                <a:gd name="adj2" fmla="val 154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9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5" name="Rectangle 64"/>
          <p:cNvSpPr/>
          <p:nvPr/>
        </p:nvSpPr>
        <p:spPr>
          <a:xfrm>
            <a:off x="530280" y="220680"/>
            <a:ext cx="253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32"/>
          <p:cNvSpPr/>
          <p:nvPr/>
        </p:nvSpPr>
        <p:spPr>
          <a:xfrm>
            <a:off x="179280" y="112068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结：除数不接近整十的笔算除法，既可以按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试商，也可以把除数看作与它接近的几十五，再利用一位数乘法直接确定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2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0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2"/>
          <p:cNvSpPr/>
          <p:nvPr/>
        </p:nvSpPr>
        <p:spPr>
          <a:xfrm>
            <a:off x="425520" y="771480"/>
            <a:ext cx="86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白兔共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胡萝卜，它想每次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需要运几次才能运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3"/>
          <p:cNvSpPr/>
          <p:nvPr/>
        </p:nvSpPr>
        <p:spPr>
          <a:xfrm>
            <a:off x="1020600" y="1965240"/>
            <a:ext cx="72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5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5 = 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次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·····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+ 1 = 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需要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次才能运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8:54Z</dcterms:modified>
  <cp:revision>2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